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6D44-2E76-4B31-A9CB-6674AEDD8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EA0D-1FC2-41C7-AF74-BFDFEED20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AAC1-CC7F-47D0-A91A-FF89CC793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92CF-4491-431F-86A0-E68C0A280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DD8E-F33F-439D-AA6C-D6B93292D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8F4D-D079-4D6B-B267-2D4BF4D67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F200-0529-426A-9F27-D096BFDF3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6A72-2653-4737-94AD-90E81D410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E2F9-4EF4-4BA7-9363-D86BD1030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B054-7306-4029-A514-AAA0D6711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B328-F326-4307-9456-B4F4C0481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024A-538A-46D1-A628-4F543671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06D11-352F-44A6-B2E7-D0EB6F7551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fff3b"/>
                </a:solidFill>
                <a:latin typeface="Arial"/>
              </a:rPr>
              <a:t>W.o.gs on the goldfi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ff3b"/>
                </a:solidFill>
                <a:latin typeface="Arial"/>
              </a:rPr>
              <a:t>By Alexander And Dani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fff3b"/>
                </a:solidFill>
                <a:latin typeface="Arial"/>
              </a:rPr>
              <a:t>What did the W.o.gs wear?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42920" y="1413000"/>
            <a:ext cx="66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ff3b"/>
                </a:solidFill>
                <a:latin typeface="Times New Roman"/>
              </a:rPr>
              <a:t>Chinese men wore there hair like a ponytail which together with their distinctive clothe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fff3b"/>
                </a:solidFill>
                <a:latin typeface="Arial"/>
              </a:rPr>
              <a:t>Did any of the W.o.gs dig for go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fff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ff3b"/>
                </a:solidFill>
                <a:latin typeface="Arial"/>
              </a:rPr>
              <a:t>Yeah, they did dig for gold but they didn’t dig for there holes they dug from other people’s ho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fff3b"/>
                </a:solidFill>
                <a:latin typeface="Arial"/>
              </a:rPr>
              <a:t>Did any children go to the gold fiel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fff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ff3b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8fff3b"/>
                </a:solidFill>
                <a:latin typeface="Arial"/>
              </a:rPr>
              <a:t>There were some children but not a lot because only men were on the gold fiel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fff3b"/>
                </a:solidFill>
                <a:latin typeface="Arial"/>
              </a:rPr>
              <a:t>Did any of the Chinese di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fff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ff3b"/>
                </a:solidFill>
                <a:latin typeface="Arial"/>
              </a:rPr>
              <a:t>A small group charged the Chinese cam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fff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ff3b"/>
                </a:solidFill>
                <a:latin typeface="Arial"/>
              </a:rPr>
              <a:t>Eye witnesses stated that European and American diggers attacked the Chinese with timber and ax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fff3b"/>
                </a:solidFill>
                <a:latin typeface="Arial"/>
              </a:rPr>
              <a:t>Why were they called W.o.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fff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ff3b"/>
                </a:solidFill>
                <a:latin typeface="Arial"/>
              </a:rPr>
              <a:t>They were called W.o.gs because they we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fff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ff3b"/>
                </a:solidFill>
                <a:latin typeface="Arial"/>
              </a:rPr>
              <a:t>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fff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ff3b"/>
                </a:solidFill>
                <a:latin typeface="Arial"/>
              </a:rPr>
              <a:t>Orien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fff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ff3b"/>
                </a:solidFill>
                <a:latin typeface="Arial"/>
              </a:rPr>
              <a:t>Gentle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fff3b"/>
                </a:solidFill>
                <a:latin typeface="Arial"/>
              </a:rPr>
              <a:t>Did any of the Chinese want to come ho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fff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ff3b"/>
                </a:solidFill>
                <a:latin typeface="Arial"/>
              </a:rPr>
              <a:t>Almost all the Chinese who came to Australia, came with the intention of returning home to their famil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fff3b"/>
                </a:solidFill>
                <a:latin typeface="Arial"/>
              </a:rPr>
              <a:t>Was there a war between them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fff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ff3b"/>
                </a:solidFill>
                <a:latin typeface="Arial"/>
              </a:rPr>
              <a:t>After a series of violent clashes between Chinese and white miners at the Buckland River gold field in Victoria in 1857, a Sydney reporter wrote, "the increasing number of celestials has been gradually creating a feverish and dangerous state of excitement"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fff3b"/>
                </a:solidFill>
                <a:latin typeface="Arial"/>
              </a:rPr>
              <a:t>What kind of Food did they e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fff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ff3b"/>
                </a:solidFill>
                <a:latin typeface="Arial"/>
              </a:rPr>
              <a:t>They ate mutton and drank t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3T02:53:16Z</dcterms:created>
  <dc:creator>alexander_luong</dc:creator>
  <dc:description/>
  <dc:language>en-US</dc:language>
  <cp:lastModifiedBy>daniel_ugarte</cp:lastModifiedBy>
  <dcterms:modified xsi:type="dcterms:W3CDTF">2010-09-08T02:32:06Z</dcterms:modified>
  <cp:revision>8</cp:revision>
  <dc:subject/>
  <dc:title>W.o.gs on the goldfield</dc:title>
</cp:coreProperties>
</file>